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3F1F-12BB-4B80-84F2-57A569DF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95B3-E607-47CF-B488-2CC93790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58E1-2F5D-480B-B412-1F19F7E6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55C2-A928-4242-8B9B-7D64FABE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03B1-BD76-470A-947F-163EC1EC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2CF-8B4F-437D-8FF6-8A10345B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FE57-51BF-4BCF-A4B3-843F3EF0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77A0-C6A7-4E66-AD84-479A5D0B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3CFD-B8F9-4AB5-A16A-011104CC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7616-0D5F-4442-8C92-929F71F5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63A5-83B4-447E-96D6-D1E0F2DF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18E-F5CF-4B45-8BAD-37337BD0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A83D-6996-47D2-A41A-BC0059383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sace-Lorra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905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sace-Lorra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sace-Lorra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0" y="1066680"/>
            <a:ext cx="4343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 after German Un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0:43:08Z</dcterms:created>
  <dc:creator>Greg Peters</dc:creator>
  <dc:description/>
  <dc:language>en-US</dc:language>
  <cp:lastModifiedBy>Greg Peters</cp:lastModifiedBy>
  <dcterms:modified xsi:type="dcterms:W3CDTF">2010-03-30T10:59:38Z</dcterms:modified>
  <cp:revision>2</cp:revision>
  <dc:subject/>
  <dc:title>Slide 1</dc:title>
</cp:coreProperties>
</file>